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3D10-6B9B-4706-B8C7-4ABE8B2D8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397EA8-8857-49B7-BC61-39F090E6C28A}"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ACD39D-1950-4786-BC17-910D6828DC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60877076-47C4-460F-B927-79919B64CFC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C59224F-B274-4E6E-82F8-8B1B836B3D3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35A1363-2D80-4098-9E24-9C077E4CFE4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274743B-DCED-46B2-9AEE-7CB02F6EBFF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1C2D8CD-493C-4431-9CBC-D1FEE920BF3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EA04D97-BC75-4AED-AB51-4606922D41A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E0A2FFE-5F69-44F7-9E8C-57706D8F104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5F4CF3D-EB52-4F42-B894-445F0E4C74D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54B8B02-839A-4228-B592-D1FE0B0D7DB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C872F9F-7048-457F-83B3-D17F60148B1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AA85390-66B7-4FE2-A0AB-54EB332C8E3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90D2B5D1-3DEB-473B-AA6B-B694B06B786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089331B-09A1-49F8-A3B8-F25BFF4A3EB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E742843-947B-47B5-8600-B5276495FC6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1E174DD-220B-43E2-8F66-F8FFCFEEB7B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890F551-5259-4845-953B-C3F4F7D31F8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D367B20-E8F1-4BE6-839D-9A25B3779DC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CEE453C-C2B5-4F1A-A905-72171D07DEF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36D3424-28FA-4D39-BAC4-C26AA186037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3F57DF7-B554-448C-AD6F-6855C7CA12D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FD88EF5-825E-4AA9-9BF9-0A3240A4B3E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C10A5A6-2F4C-41FA-8D4E-AC82491E774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751D2091-F8CF-4578-BCA6-0FD4DC93356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873251D-ADF6-4C60-A38A-D44608123E4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62008F8E-D9DD-4E34-833F-620F730038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3FAEFC7-8BB5-4A36-AE0F-B070FF2164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E141DC9-31BF-4A9E-95E9-09C0FAA75A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3F44223-D7F3-43E1-AA2F-0482703E1C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6B9EE51-4093-4935-B48D-20D53A2656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41EFA7F-372D-4EEE-9524-421436CCC7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E2D0EB6-4B19-4DA0-9F85-8012195178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B98CFF3-C922-41C3-A907-1A5CDD47A1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88E7501-F0B0-4C18-901F-7032D12626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87D24E4-7D71-4377-A023-32F4EF49B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BF0E21B-ACF4-4EBD-AC68-2E0E09769B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5DFA0D2-9D8F-41A8-A6E9-37316C8532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D6B3711-1889-4F05-88E4-EE71F526C4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9E47805E-EFCE-4B6F-923A-21B322DBE5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089843B-EFA0-48D6-AA10-0DAEFCFC2F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152D798-23F3-444A-8C03-409756C46C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5D014AB-E8DC-4870-BD90-D5DFDE2FB0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65F655C-38FD-4DC9-8D5F-80B3FE779E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8B7ADF8-9454-4693-9886-7CEBC12143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BC4C9F5-00DC-478A-B2A6-4EFC7D014C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C5A469-2532-4111-B3D0-A5D8E1A06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7F64F47-D554-440D-9B8D-9846013023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8AD27D1-72DA-4C97-8829-94C967BA1C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6955E9B-AB38-4C3D-B1FD-D71F3B7A63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2442FD5-C195-4513-BE04-4AD4633C5D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0AD054C-A9EF-48D4-8E76-EFC8156C18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99D54DF-698C-4A6E-AD24-4C6076E484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A5A6F09-F8D7-404A-B1CC-2D4AC3F2C9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C3B0F8B-CC7E-4350-9F6A-C4F6C6AC56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957D70B-7F97-4111-9DA7-DF4595FA32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8419137-0E67-49F4-AEA5-022324DE54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1C29C89-CB59-4308-B4A9-DD017E4FA1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7802E62-DCEA-44F0-8034-6D8C2CB65C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1B93222-3321-4C7B-9173-4D68E47796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D992A2A-F7E7-43EB-9BB3-73747D886A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4E27FAE-F5FD-41E9-901B-35915E3359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A338B52-F8C4-4F81-B78E-02D94F5A86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E5A37422-1260-4146-9D12-F7BA38E2E4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64D0436E-B440-42E3-92D1-B63DA268D2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B8B0B47E-CEF5-4D2E-9E5A-C1474D1C41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F1CEABF-CCAB-402D-B621-3C5501952F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5EB1F14-AAEC-4902-A36A-82C9393058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3D17A4-07EB-44D8-AF2E-825D48A628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C973392-A96E-408C-8D10-ABBA856A06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947158C2-9E11-4ABA-A3D3-A700952900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38553D8-82C6-4C57-98D3-8774DFAB00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EE12D4A-5E4A-41C2-B850-7758423A2E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3DB7759-4E6F-455D-8B00-D4C302DBDC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A551C5C-213E-45A3-BFFE-1BB297D48A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FE79BBF-8064-4CCE-A346-CD435CCC22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53465746-9A3A-42AD-89DC-58B9145DC9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1D3D0FF8-293D-4B15-904C-81AE656FC2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5381314D-BC0E-4B7D-85BA-1D1B044DC5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900D68-CEF3-48C2-8931-5C919EA4C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5EAEAAE1-9494-44A1-8DC2-FF9230E9FE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14BC4CE-332B-480B-8469-B0960E163D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3AA3DAB-9C23-4C32-B871-134ABF2046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58CE979-5D9A-40EC-BF73-FEE63777FE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A7317AE-8644-440A-A398-81C21A9CCF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37307A9-500C-440B-BD43-82E0829DDB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7C9B09D-B24B-4135-AECA-142AAF2637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682584D-B4AB-4C3C-A0BB-4BC13F684C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6D23280-E743-4FB4-9840-A5C3EB62AB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3C686A54-CCD8-43E6-81DD-1762C09EB8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5ADC5D3-A913-4E38-8B12-9FBF70C82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BB3163A8-7C7D-4750-98AC-B709714902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C43C2729-CE04-434C-BC57-918BF79A15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BF8178C-F8F3-401E-8AAE-DEE93EEED5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84619AE-AA18-4F65-AF54-2EEA769E91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81C0334-01FD-41DD-8FFF-21A8141DC1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D351EA6-49BC-49AA-8D1E-F5115E9FD6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74BCC85-F94A-4AC6-9904-CCDB7E2CD3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F6E8961-2732-41FF-81BF-6260DE8A4E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FFF6813-B7F6-42EC-994E-22FFCFAD9C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9F88950-8E06-4FF9-829E-4D80BC82E5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330DCD-D343-4047-A815-2D125A7504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4E32F38-92B1-41D9-B831-B7ECE27E4C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87BF7746-CE86-49BC-AA54-4429991C63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A2613DFC-42E1-4CDD-8CD4-8BE71A5D1F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A8A99D2C-DCB6-41C4-A9B4-F3FCA4F0A0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342F45A-1CAF-4DE7-8B17-1C7551F283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E94CD1B-3218-4439-A9BE-4455214EC2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357B89DD-533B-4C4A-81FB-94B4B702B4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388E03D-5D0D-476D-811E-921D9F2AF5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FE91174-F9FB-4621-99F8-0AA8F9849C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B90BD36-E26A-449A-8A84-B224F17E2B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DD643BBA-EB14-47FD-BC00-AD2D979133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F11BED-5523-47F2-ADFE-90D382C277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6D18E55-358D-4971-AABC-A0D70EA42A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30A7A4C-A11D-400A-A57A-49CFE1E356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33FB2A3-7EAF-4414-B44B-76F0A0DF00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15133CC2-91D9-4255-AB2A-0DDC55190D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9F73665A-5D54-4084-844E-56A4185221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FD423876-C5C8-4F81-ADC3-53783F93F5B0}"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F86C7D4-AF86-4250-804F-8F5B7E4A6D8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2DEE1851-7D78-4E8E-80CF-6BFFED7428E0}"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CCB282DE-D6C5-4D69-896D-1AABD7D97E2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FCA438A9-ADD2-47B8-8AA0-B526D6922A1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B2489D-120F-4038-BFA2-CA4AFB3299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521B8BB6-E8AE-4813-9052-D8EEA177CC4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016F0A6-816F-4AFB-B540-3DF041414B2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45CEC0D-9C24-4DF2-B6C7-1BF785D9FAF5}"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9FD0349B-DE0D-400F-9F18-150A2F4E79D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C113F05-FA41-4D0F-9F2D-B0B5D2FB840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56F65526-0A8A-4D1F-8348-942922EA8651}"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4BD50083-4E66-4DEC-AE21-FACB3ED9A1CA}"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8B4E4885-1CD8-44C1-99A9-1C4FB669178C}"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6A6197D3-DCD8-4DE2-8690-84504F17D9C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82FFEA50-B158-4A39-AF9C-298721B36707}"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6A9D58-A09B-409A-B8A0-D74FD90BAF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2240630B-7100-4E09-B35B-642404BBD95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ECAEFED8-9194-4273-814B-6FFF40DE0BAC}"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36AA60FE-3856-4FCC-B0BD-7CC276EB7C6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976C0A4-46BD-4E2F-9ECB-4ABF9FD562B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FBD3A85-324F-4914-9741-BD91927142A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87833EB-3083-4BA2-9D98-B789CC4D665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2457D96-EA71-4269-AF7E-3E3D887EDAA1}"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EA5A88D5-7A02-45A1-8956-8589FBF64435}"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BBBD2F5B-9D13-49F0-80AB-78D35C6CC801}"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B0D37784-3BBD-4255-95B2-CC3B21BBF87F}"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B62F11-BCC0-4FE1-A088-E37E35F8597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1347DAEB-4749-4216-BC36-6C73925E3E85}"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84F5E269-B2F2-456A-BBD1-B5350703249C}"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0CD0AF4-A57A-405F-A319-BF94D5687C3F}"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7C7CC007-2311-4A33-B7FF-70FE7E92CFA8}"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C6358D4-190C-41E5-9D0A-84AE69DE514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37CC082-E173-4483-BED2-41099E87A8E5}"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117C765-930B-41C9-87BE-72019E26F367}"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AF5C867-C6DC-4267-B4F9-4AB16488409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27BE1494-2176-4FCF-8BF2-B81D724C2F9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60E4F9BB-CF06-4690-B1C8-CE3B1E8B804A}"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78904CE-C63E-4A00-B52B-FAE04EBF4A3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4A18AD7A-B82F-4272-BAF2-F50774167177}"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71070F6D-DCC6-4DDD-9EC2-511E908A0A36}"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B2F08872-1587-4FE6-B42E-8174ECBF7566}"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7FC96012-AE95-463A-A1BB-42D4AC0B1B7D}"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011DAC6D-2651-4525-BCD8-F7475B05A601}"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A25EF0AD-D3B7-490C-975B-C12AC41E657E}"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59AB30B7-E6F2-4248-A47D-9BD56491E48D}"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4B43AECB-75AC-4DC0-A257-F73C9F3D20E3}"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A009BC65-FB4D-44E5-BCA1-027CA001DEDC}"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96964818-0594-44CE-A901-D316EF877376}"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153CAC8-84C8-441F-855E-4ACF6C89432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4E898213-02BE-411A-A8F5-ADCB2766F35A}"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0911A096-4071-4958-AF2A-522543F0117B}"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41A056CC-88C9-4B9C-82CE-B2B64FB2580A}"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29FA78B5-5745-4FD8-BEDC-0277ACC32D79}"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3EB4B612-69DD-42BC-8024-841FE4F954C2}"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266620BA-9F6B-4526-A1B2-86CA17183D7E}"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A18CEC9F-11D9-4E16-8C3E-085ECB78FD2D}"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3D867685-CDA2-4D09-BF0C-5D7A67AC1D8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886A94C4-7A82-4400-96CA-C2EB0F44C005}"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01FBA493-9497-488F-A973-9505518869E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3DD8423-2D40-4181-90FE-BD4B216A9B8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EE81922D-231E-4DA3-A921-788F5B77A50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336B515-47B9-4526-B97D-58C0264A61E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BCF56806-4B7F-4271-9F98-0A2C346215E2}"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D32A02EA-F46D-4E03-912D-E3F4CCE97658}"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A4D0F127-61B7-4FAD-9953-DC0389BC477C}"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5B015EF4-B4EC-4DEF-A2DD-3E01A0B1CD79}"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93254A12-034A-46E8-8E8D-B2655430A21F}"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CD6E03FB-B84C-41E9-8D96-46F081AB31CA}"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84BF1C1A-5C5C-4A63-83E5-297AC8B89F05}"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9C731CB9-A95C-46C9-988C-A828033FBCB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8BD877E-AC8B-4546-9BA5-59E4B9FA872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2F8DAA9D-919E-4018-8F79-25A17CE3D14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36B55AB-673E-40D8-8DD5-3C9F98CB69F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B8E18E2D-8ACB-456C-9509-E3A0B3512ED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1902072-2B26-4CA6-B26E-6B26EB98217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C79926EC-1DF7-4823-9F9F-F2E7E5DCBA64}"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4372D2CD-3723-4037-BDF6-84CE4966236C}"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3332E7BA-17B8-447F-A652-8E477DAA3D99}"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023AE2F5-F118-4161-981A-99ECE735B2C3}"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FE3985DD-9110-4B74-8B63-2812B50DDBB6}"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D907ED26-E828-40C1-8472-972499B0F9AC}"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5B6A390-2FF2-4044-B188-5CD6B44E52A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336193F-39FD-4D29-A5A5-4DF3B55773A1}"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117F5788-BA28-4D6E-815E-22FD806C5D9F}"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64283EBF-AA51-4C18-BDDE-1B17A5F73D22}"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8F274D8-755C-4032-B8F2-660E6D0D737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EFAEA4D-97C0-4F76-A642-5586ACB3ED3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3748F10-48DB-4D74-816E-A0FD75F7F8E8}"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5023EAF0-08DF-4533-B2EE-4859915B1429}"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6C94A91F-40EC-4690-9D6B-22BEA5758D6E}"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5BDF7D03-9F6D-4A3D-B4F2-6902C8433E37}"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6C77EF48-EF44-4E48-981A-C243FD2FB4B4}"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DCBF991-0282-4272-8A25-B132732A41B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726B4914-783C-488D-A397-5836F0D4367B}"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107EBB19-8B12-453C-BEE4-7267EE2C7CC0}"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FF8A51E6-D66C-413D-A1B9-8EC3D62DBBE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50DEFA4C-2553-440B-B011-16995554220A}"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73205236-2CEE-4343-A7C5-7DE37FDD7619}"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E843F05-6EC3-47D5-9B21-42E3116BE30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4B9022D7-6E32-4785-A9AD-CFFF25D8836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123D8864-F64C-4460-91E3-C11279FB34C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7B321B3D-630C-4CD4-8CB1-18DA4BA187F4}"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D4CD5A40-50C2-4865-BEBD-AFF056E4673E}"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AD387DDB-0B98-4614-9853-5A37EE634F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46C477E-2D2B-450D-96E1-51BCC925AD2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BB971565-C38B-4DC4-AA75-735DBDD24D08}"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E7E0836-DC06-467C-B68A-311C80271D1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7BFB163-C5D0-4E52-B88B-44EBBEFB6D3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B04A074-272C-431F-943D-E1F735F9812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2FA30B6-91AB-499E-B1FC-612460247C8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BC1A117-777F-4E5E-9715-BA80E000BC6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1DBEF6B-1EF8-4D4B-ACF2-86BBEBAB736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717D7BE-4095-4C03-94D8-5C466D40C1D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31BC58A-D0A4-4CA8-B0FA-9E250FA7BCD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5EE86DE-9820-4850-ABDF-01EF8A8B823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747258DD-C84B-4F11-8F3E-6FBA4FCDE7C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7A29D0E-8A8C-4287-95C2-CE864D8FD0A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C79297A-B215-46AF-A25E-AB64E27A1A1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204AD8A-5555-4648-8A49-BAA49AA32DF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B2207AC-D1F2-431A-87E7-151549975B2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E86A699-66BC-464F-808C-F5598857003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FABDDC6-9FD9-4D46-9A71-0269F620FBE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BAF83F8-AAC4-450C-ABB0-5399E18A278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E2EFADC-2FD9-4AFB-ADA5-A2DD56E4B0B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9FF0F0C-9E77-47FD-9B1B-0DE93961541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71717AE-26F4-4324-AC3B-B4AAA5F8156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51751760-EE45-446C-A018-17F180A3C57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C326C82-40C3-4708-A4F4-37A467DAE7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D1DD64A-04AF-4F6E-895D-EFE17E92FE6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79ECFAE-29BD-417A-8657-4BB7B2FC5E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3709000-5BA1-45D8-BE7C-5814754DAD3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3D5400C-494A-4E7E-B8D6-15EE6F0A092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4C02673-0D27-4894-8A40-96934994D18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A623F8F-C11C-4D6A-8531-E61C33C6F4C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A363CCA-E2EF-4C30-9B51-62E319FCBA7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3242811-8B37-40A3-8C79-B78A2DF0EDB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FE6473E-6D31-42F3-A617-E2DA652E955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C920EB33-A5FB-4F23-8AAA-473B6B81BE4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97FCDA6-A6AB-43F1-A7DF-9BE34F5727B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7055E26-E3DC-45BA-995F-922A8609A02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76B83D8-A113-45E2-B2FC-76CD345119F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A2DAD82-D6AC-423D-9BA2-FC608EB2842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C307247-03A0-43D2-8FB2-2AD7DCE0B14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332B72A-4B58-4FFF-9BCF-0AC7C6643C5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DC6EA84-FBE1-47E1-82A7-279B9ED0FEE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82ECAF4-82A4-4333-9219-7D2508FD0C4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69FB3C4-CB09-4707-8551-8FCD8220C87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9A8EB70-A531-47D6-B804-420DC848CB2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631A423B-BFBA-438F-8FE5-6597FA04708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04DA2B7-A49F-4357-B5F2-43960F85807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A9C5081-77C7-4289-A852-C23F58B2BCE0}"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021CCBA-E14D-49E6-B00D-F6B65EADA09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5D9FF60-F032-4B47-A90D-7236B0F951E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4529401-0BB6-4D2B-B0A3-FC121839182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D0D4519-255F-4BA0-8DA6-2A542B0DDCB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06754E5-D5A5-45D7-A820-AD186435F86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04ACDA4-C1CF-4D70-A3A5-3067C8DED9C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D22E0CA-00D8-486A-870E-5D94B021676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31E9724-B4DB-4CE5-B98A-18E5E89ABF8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F7F66A87-072D-433C-99EC-55A03ACCB24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CE51D1C-BD50-4A22-BA2B-64D6A473EF6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957EADB-15A4-4F02-9FB8-849D8F55181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7144E5F-8459-41BC-A730-D3390E1ED10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30C0512-E2C0-4A4D-A17D-21A362B8453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6F1B526-6F78-4674-B27E-C9AAA1AF004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A66F4BE-B2BC-45DE-BE3B-8B21C4843B2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85576EF-FCF3-4E44-B8BA-003D68BE3C4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DD19B3D-6B98-4A59-B565-C205B9149F8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0491E4C-C605-4740-BE92-924B9F12551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40DADC8-225B-4B6F-AB2A-4B4E0BFEB26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E5C00176-22BB-4617-B151-707D781D49A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6A0EA63-9DE4-463F-A696-CF4939343D3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DEA664F-7377-4076-A629-42E5B44F1BA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79177D9-C862-4CFD-A56A-E870878987E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7437323-D5B8-4AA0-92A8-943552B0ED2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7D85EA7-E4FF-4B7C-8E81-B066E676111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0A54C68-02F4-4B45-B799-926110C5E32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37E0E3A-49EC-427F-A765-1093C9B1F80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8B99592-2CAD-4C3C-AF17-1A28CB9995A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130708D-F051-43D6-9D27-1371E2A8948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F8754B9-8F4B-4F1C-83E2-BE7EE4E9473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6468-5A5E-469D-A31E-412D247FC74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00BC-4969-4A76-922B-C78AA2C6188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E83C-237E-496F-B0F0-B46E4D49134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5C3AD-76FD-4FB7-A010-D9B57967B68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DE4C-935F-404E-AA51-F2B3005B514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5C0E-56B4-412B-A21B-2230815612A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5C757-D070-4D51-9F38-95C5146CBF3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BF3C-C824-437E-8C3F-1810D6588EF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78CA-BF04-44AA-A4F4-997B903645A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B42F-3904-4DC2-A175-99E8D78C458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2C3F-3907-4278-A86F-FFD35B4B9D4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489F-89D0-403D-A8FA-20EE6084FDC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18FF-9AD8-488C-85D8-B78609744B3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AE5E-820E-4E55-8A25-3A53EB43F0E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A1E0E-E8E4-4925-AE65-3D94E8B39E0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EFB3-42BD-4E59-9F20-A11E3C63CC7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B781-06FF-439A-BFB1-CB4A65968BB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40DF-9414-4A79-83C8-6C3C173319F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4908-2CEE-40C5-834C-8FB0EA944B2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1FCD-78F0-45E1-8C58-0B6EC926DA0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70EE-39D8-4E2B-9C76-A1849B0FD14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85FE-738D-4F1C-910F-2996B116736E}"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C6A2-E021-4A85-BD28-0065FE75DEC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0CB3D-E73E-4D1C-95FB-859E3DEDE53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8940-9348-43C9-B108-5EFA4747651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8698-5FE6-47E9-9F2C-EC3600FB87A9}"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199D-AE63-420F-A9B9-40DA88DB3F5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B697-1C07-43C8-8944-CEE7FA0F898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32A6-6217-4AB4-AA50-D6CFB44547F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3DB7-DF0F-412E-A864-197635F862F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